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3A8DE-162D-44E7-8F2C-3720E45B2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89C50-DD4F-4DB3-9CA3-A42608F57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59164-6EDB-4865-9FEE-BA6999740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38426-8155-48A7-9118-E32F21D3A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6927B-634B-43F2-8AAF-BA2763526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24CA6-A35E-4677-A14E-0E8389DB8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BB4FD-7940-41FB-8758-071FB2905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7A17E-D860-4DE0-AEAA-2D141E855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3149B-0CF3-4F57-A93C-C60BE5F03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69248-EE7A-4E79-A525-D71E5A364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FA28A-D424-45D7-863D-314CD4D2F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91FCF-9B7E-4E84-841A-920888D04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B7D88-014D-4679-8855-8AD4B8FB6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AEA56-8391-47A5-A3FE-66F4E9647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97864-3079-42E8-8CF2-F7D9A13D8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CA816-A02C-450D-9B9F-F1408F315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F045D-A728-4663-B20F-1B43AB2E6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CD7C0-B5B2-4F7E-9C48-2262A461B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89FD7-2FC6-4F25-8D73-62E42487B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6EE4A-7EC6-428F-BD5C-DB30495FD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3F84A-B3D8-415C-A952-2BCEA8B36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99B70-EDDB-4498-96B6-4D0CC3C03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37743-CD6F-4237-971D-6C998D65E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DFA9C-F851-4C3B-8489-C83115D37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FC4DD-8485-4B8A-AF06-EC629AF65F2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3F460-0040-499C-982B-E465C3FA30C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shielded and Shielded 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shielded Twisted Pair (U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inary telephone wi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st to inst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ers from external EM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ielded Twisted Pair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al braid or sheathing that reduces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er to handle (thick, heav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TP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grade found in most off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of 7.5 cm to 10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20 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ly pre-installed in new office building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0.6 cm to 0.85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ar End Crosstal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of signal from one pair to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takes place when transmit signal entering the link couples back to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.e. near transmitted signal is picked up by near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20412" r="0" b="47008"/>
          <a:stretch/>
        </p:blipFill>
        <p:spPr>
          <a:xfrm>
            <a:off x="685800" y="1676520"/>
            <a:ext cx="77724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versatile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 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iel to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ble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10,000 voice calls simultane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ing replaced by fiber opt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distance computer systems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few 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if higher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5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1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for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60246" r="0" b="10168"/>
          <a:stretch/>
        </p:blipFill>
        <p:spPr>
          <a:xfrm>
            <a:off x="533520" y="1973160"/>
            <a:ext cx="838188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Benef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s of hundreds of G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ize &amp; we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attenu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magnetic iso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repeater spa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s of km at le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-haul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ropolitan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ural exchange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 as wave guide for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5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Hz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ions of infrared and visible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ght Emitting Diode (LE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r operating temp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st lon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jection Laser Diode (IL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velength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ided - wi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- wir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and quality determined by medium and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uided, the medium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nguided, the bandwidth produced by the antenna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concerns are data rate an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Transmission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9525"/>
          <a:stretch/>
        </p:blipFill>
        <p:spPr>
          <a:xfrm>
            <a:off x="609480" y="1679400"/>
            <a:ext cx="7925040" cy="51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and reception via antenn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eful alignmen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spreads in all dir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received by many antenna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GHz to 40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wa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ly 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tell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0MHz to 1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2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restrial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bolic dis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haul tele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er frequencies give higher 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tellite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is rela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receives on one frequency, amplifies or repeats signal and transmits on anoth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geo-stationary or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ight of 35,784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 business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Radio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M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HF and VHF 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ffers from multipath 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l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ra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e noncoherent infrared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 (or reflec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ed by wa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V remote control, IRD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Fact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bandwidth gives high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impair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receiv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guided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receivers (multi-point) introduce more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magnetic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7401"/>
          <a:stretch/>
        </p:blipFill>
        <p:spPr>
          <a:xfrm>
            <a:off x="762120" y="1676520"/>
            <a:ext cx="7619760" cy="50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uided 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rcRect l="2349" t="0" r="16196" b="81868"/>
          <a:stretch/>
        </p:blipFill>
        <p:spPr>
          <a:xfrm>
            <a:off x="380880" y="1752480"/>
            <a:ext cx="8305920" cy="24480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comm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house and local exchange (subscriber loo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private branch exchange (PB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local area networks (LA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Mbps or 10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work wi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5km to 6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ither analog or digita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2km or 3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bandwidth (1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ata rate (100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interference and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5T12:24:05Z</dcterms:created>
  <dc:creator>Adrian J Pullin</dc:creator>
  <dc:description/>
  <dc:language>en-US</dc:language>
  <cp:lastModifiedBy>Adrian J Pullin</cp:lastModifiedBy>
  <dcterms:modified xsi:type="dcterms:W3CDTF">1999-10-13T14:41:49Z</dcterms:modified>
  <cp:revision>26</cp:revision>
  <dc:subject/>
  <dc:title>William Stallings Data and Computer Communications</dc:title>
</cp:coreProperties>
</file>